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D771-E312-4260-98DE-BC2368F4E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6258-CBEE-4DC4-BEBD-109FF276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EA02-9D15-421C-9C44-6988C233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1E18-B874-49A9-AF83-0A4CFF90B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512F-938A-46B1-9776-8983C20D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011C-DFF9-4643-9482-E0ECCFF0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EBC4-B689-4DB8-B4B6-02E2ED83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8BCA-4894-49F7-AFDD-C9FDA3D0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9393-1AB4-4750-A317-D41D4325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B598-1794-4617-8E74-6CEB4B28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65F8-8DFD-46AF-B7DD-FAFC246A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3C79-1056-429A-B15C-992D2138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16BF-E5D0-4923-9C9A-70DAA066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F3BE-7742-4171-82A4-8F164A3F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456A-981A-4A0B-9EC5-30B3FEEE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2515-2B4A-4848-8A38-531D4B8F9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8B49-C572-4948-AA99-7CE918D4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5D72-92D5-4365-BE96-68374998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6D36-2EC5-48A7-9F6F-A1B0B526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B513-93C7-48E2-961E-5462D213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7A55-0F98-43B0-8443-EC5B3F89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2300-2523-47B7-A2ED-5E6F83C8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4C50-F752-4949-B2EA-9057E2F4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6707-16C7-4DA2-89DD-3A84D20A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3001-D895-4728-80E4-50A596585E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0C01-863A-47F4-A2A9-F77E369CC2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LESSON TE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THE HIDDEN TREAS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Matthew 13:4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Treasure” – unexcelled value; priceless; more precious than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t is the “Kingdom” – It is the prize of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riz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The foolishness of losing the treasur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is seen in the contrast of Matthew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16:24-2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cf. verse 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cf. verse 2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The rich ruler of Luke 18:22-23.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Instead of possessions in heaven, 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went away sorrowfu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hat determines the worth of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Kingdo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 The king himself – when w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possess Him, we possess all –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Rom 8:32; 1 Cor 3:21; Jno 14:1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 The durability of the Kingdom –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Heb 12:28; Dan 2:44; 7:14; 1 Pet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1:3-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3. The uniqueness of the Kingdom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Phil 3:8; Jno 14: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4. The practicality of the Kingdom –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Jesus satisfies our needs her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and in the hereaf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 1 Tim. 4:7-8. Godliness i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    profi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Matt. 19: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 Jno 4:14 – never thir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 Phil. 4:19 – Supplies nee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 2 Cor. 9:8 – M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grac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    ab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5. True riches of God found i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the Kingd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Romans 2: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Ephesians 1: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 Ephesians 1: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 Ephesians 3: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 Colossians 2: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SzPct val="1022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The acquisition; purchase of the Kingdom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Haste; without delay; act now or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lose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1. 2 Corinthians 6:2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2. Hebrews 3:1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Hiding the treasure – lest another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take it away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C. The preparation – selling everything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1. Luke 14:28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2. Luke 14:33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3. Matthew 10:37-39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4. Philippians 3:7-8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joy is complete – he understands the value of the treasure he has acqui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buying was indescribable goo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ortune; sacrifice a joy; duty sheer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xhilar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salm 51:12 – describes the horrors of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once known joys, now g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saiah 61:1-3 – Prophetic of Christ an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hat God can do through Chr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saiah 35:5-1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 Peter 1:8 -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No sense of sacrifice; no regret;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no haggling over pr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 “Immediately” – straightway –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interesting word in scriptu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 Matthew 4:20; Mark 1:1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Acts 16: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 In scripture, those who came,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came straightway.  Those who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did not come straightway di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not come at 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 What was Jesus saying to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rich young ruler when he tol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him to sell all that he had? Matt.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19: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3. Matt 11:28-30 – Giving up thi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burden could never b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considered a sacrif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4. It is a sacrifice when we give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lesser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for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greater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Buying – Everyone loves a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uried treasure 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 He goes “in joy” and sells “i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joy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 Not like the man of Proverb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20:14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3. Proverbs 23: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4. Isaiah 55:1-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5. Revelation 3:18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Similitudes of the Kingd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 Finding the Kingdom is the supreme discovery bringing the greatest of joy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esus leaves the boat and the multitudes (Matt 13:36) and enters a house with his discip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He reserves the explanation of the parable of the “tares” for them only (Matt 13:36-4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He now gives them three other parables: The Treasure; the Pearl; and the 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Treasure” – Gk. ‘A store laid up.’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A.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Could be money; jewels; or the like –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Hoarded up; to have in stor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A thing of great worth; something rare or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preciou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Field” – Any field where treasure can be burie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Without banks or vaults, valuables often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hidden in the earth to keep saf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Rabbis said best place for money was in the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earth (so do realtors today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Matt. 25:25 – One talented man hid it in the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eart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Morality of the man’s ac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He discovered treasure; owner unaware of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iguratively, hid the treasure again and bought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land without revealing the reality of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reas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 Edersheim: Says, this perfectly leg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arclay: Says, whatever is found belongs to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in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Seems he is within his righ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Why hid it and not mention it?  And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why the hurried purcha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 Lev. 6:3-6 makes it a trespass to deal falsely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with your neighbor.  Must restore lost th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discussion of ‘morality’ is foreign to the intent of parable; it attempts to allegorize every part of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esus is not defending the man’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ora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esus is teaching, if a man would go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o this extent for a treasure that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ill perish, how much more shoul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he go for a treasure that will last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or an etern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Man” – any man; every man that discovers the treasure of the Kingd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primary emphasis is the value of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kingdom; secondary point is the wisdom of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m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n the “parable of the Pearl” the emphasis is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man and the secondary point is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Kingdom (they begin differently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“Mustard Seed’ &amp; “Leaven” emphasis human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The Kingdom rules individuals and manki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It is both a personal good and a social or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 This parables stresses the individual;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treasure is a personal posses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is man found what he was not looking for (Isa 65:1-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amaritan went on ordinary errand to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well, but the Messiah (Jno 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Zacchaeus looked out of curiosity an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ound salvation (Lk. 19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ul was on the road to Damascus an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as confronted by Jesus (Acts 9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Gentiles were separated (Eph 2:12-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4), heard salvation was offered to them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n Jesus (Act 13:48), and the Jewish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rethren received them with Joy (Act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5: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“Parable of the Pearl” has a genuine seeker who finds Jesus, verifying prophecy (Proverbs 8:17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Nicodemus seems to have been a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uine seeker (John 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Ethiopian Eunuch was a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uine seeker (Acts 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ereans were earnest seeker (Act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7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imeon was looking (Luke 2:25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4T18:30:40Z</dcterms:created>
  <dc:creator>Jerry Cantrell </dc:creator>
  <dc:description/>
  <dc:language>en-US</dc:language>
  <cp:lastModifiedBy>Jerry Cantrell </cp:lastModifiedBy>
  <dcterms:modified xsi:type="dcterms:W3CDTF">2006-02-05T00:58:34Z</dcterms:modified>
  <cp:revision>16</cp:revision>
  <dc:subject/>
  <dc:title>LESSON TEN THE HIDDEN TREASURE</dc:title>
</cp:coreProperties>
</file>